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5C5F-30FF-48DF-92F0-0451F728F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06FC-CB1D-478F-AE04-7DAF14DA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F50F-99BB-4113-9B62-E79302F8B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5589-37B9-46A0-8F9F-E7F55CC0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0A175-9CCD-4E46-9B33-D4AECB962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B2E4-4910-403A-8929-FDEE4A55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270BD-23F0-4BC5-BC86-E9DED2136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1EBB7-EEEF-42B6-87BE-387A514E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5B5E-4C15-462B-BC99-6D517420D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458C-E919-4D16-98F5-539F0FD0F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8797-5A44-462B-9F77-575545D0F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FD1B-E446-4AA6-BA16-89B69FC43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2B2FC-8221-4A49-90A1-5E197E3BD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07ED9-8DF3-4511-BBAD-12FCD53D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4C7F8-90A7-426F-AD22-2D195B0FE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E6ACF-28BC-4085-8860-F19FA92A2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DDBE1-086F-411B-A53E-219914B82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73EE-4BA1-445F-9BF6-DAC874ACC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95CD-C21C-4B87-A4FF-9194CA3E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637C-4D90-40E9-8D49-C77075BB2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6D5E-9314-44B8-B791-4A465A5E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6323-7C26-492B-ABC8-95A69071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EA6C-D9E5-466D-90AD-36B3A17A0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F59B-6BFE-4EB8-8276-A8AF27CC5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7DF6-5779-4C75-A444-DFF8CE728D60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51460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47BA-0C5C-4DA3-8CBD-07EAA8855520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Internet Safety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3160" y="1904760"/>
            <a:ext cx="8001000" cy="464796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S V. Students understand human, cultural, and societal issues related to technology and practice legal and ethical behavior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ent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vocate and practice safe, legal, and responsible use of information and technolo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hibit a positive attitude toward using technology that supports collaboration, learning, and productivit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nstrate personal responsibility for lifelong learn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hibit leadership for digital citizenship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Why Teach Internet Safety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fety from preda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va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yber Bully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se choices…responsibility, accountability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Get to know your….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strict r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chool r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ssroom ru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2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Resource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3429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Verdana"/>
              </a:rPr>
              <a:t>http://hcpstraining.org/itrt/HCPSISAFE/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Verdana"/>
              </a:rPr>
              <a:t>http://www.cybersmart.or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http://www.doe.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virginia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.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Tahoma"/>
              </a:rPr>
              <a:t>gov/VDOE/Technology/OET/internet-safety-guidelines-resour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8305920" y="190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22160" y="2725560"/>
            <a:ext cx="29700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</a:rPr>
              <a:t>http://origin.www.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</a:rPr>
              <a:t>netsmartzkids</a:t>
            </a:r>
            <a:r>
              <a:rPr b="0" lang="en-US" sz="3200" spc="-1" strike="noStrike" u="sng">
                <a:solidFill>
                  <a:srgbClr val="3333cc"/>
                </a:solidFill>
                <a:uFillTx/>
                <a:latin typeface="Tahoma"/>
              </a:rPr>
              <a:t>.org/activities/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Kindergarten - 1st Grade Concept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va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wnershi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ognizing commeric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fe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2nd and 3rd Grade Concept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vate Inform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nn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4th and 5th Grade Concept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iva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yber Pa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-ma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UP (acceptable use polic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ahoma"/>
              </a:rPr>
              <a:t>Middle School Concepts</a:t>
            </a:r>
            <a:endParaRPr b="0" i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25455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yber Bully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propriate Online Activi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rrect use of cell ph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zoom dir="in"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2T19:13:16Z</dcterms:created>
  <dc:creator>CMCSS</dc:creator>
  <dc:description/>
  <dc:language>en-US</dc:language>
  <cp:lastModifiedBy>CMCSS</cp:lastModifiedBy>
  <dcterms:modified xsi:type="dcterms:W3CDTF">2008-06-12T21:13:50Z</dcterms:modified>
  <cp:revision>16</cp:revision>
  <dc:subject/>
  <dc:title>Internet Safety</dc:title>
</cp:coreProperties>
</file>